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5B8-6A62-4049-B602-B73502786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E4F0-5285-4A7D-96C4-0D742F5E3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D30-7E22-4437-9EDB-DC6084DB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E7A-065D-4E89-9053-F3676C43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50C-F35B-464E-8ADA-A7D75114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98D-5011-4C84-B342-763F5FF5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CFF-4339-4713-97FA-1A007067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EB5-CABA-4DCF-86BE-12C8E1E1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CA6-BB0F-42AE-A58F-0B853A28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AC19-245E-46F9-9C04-18A7C5F7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ABC-A58E-4678-862A-DF2E8F18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41B-8921-42D5-A9B8-B4B0DF6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621-8BF0-4C6E-A9F6-97BB51BD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C09-E0E6-4751-8F47-5EA8F82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B455-B041-45AD-80F2-B57EDE3CB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hahmina Ham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447920" y="1752480"/>
            <a:ext cx="56386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s amigas.  Que haces¿ Donde estas¿  Como e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76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429000"/>
            <a:ext cx="1752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Rhahmina. Vivo en NY. Yo tengo catorce años.  Yo soy simpática, bonita y divertidas. Yo tengo tres  hermanos, son fastidioso.  Tenemos dos inteligente pájaros. Adiós amigas!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 es simpática. Eres mii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a, Rhahmina!  Te amo amigo.   Yo estoy en la ciuda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 tiene una fiesta mañana. ¿Tu quieres venir  a la fiesta? Nuestr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fiesta será divertida.  _x0016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Rhahmina!  Espero el bus.  Estoy aburri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105680" y="482904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21Z</dcterms:modified>
  <cp:revision>112</cp:revision>
  <dc:subject/>
  <dc:title>Profile</dc:title>
</cp:coreProperties>
</file>